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212C9-55D1-43D2-BB35-A54E3482A416}" type="slidenum">
              <a:rPr b="0" lang="de-DE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stimmte Aspekte bleiben unberücksichtigt, Minimalwerte unk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any Abst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E382-046F-4144-B191-790D57865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761976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447920" y="3974760"/>
            <a:ext cx="761976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D8A6-33CA-4090-9717-894020504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371808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352120" y="1905120"/>
            <a:ext cx="371808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447920" y="3974760"/>
            <a:ext cx="371808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52120" y="3974760"/>
            <a:ext cx="371808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1947-C83A-43AE-9144-B61CB2D75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245340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024440" y="1905120"/>
            <a:ext cx="245340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00960" y="1905120"/>
            <a:ext cx="245340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447920" y="3974760"/>
            <a:ext cx="245340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024440" y="3974760"/>
            <a:ext cx="245340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00960" y="3974760"/>
            <a:ext cx="245340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F7C5-863C-49E2-AA80-7B7C9BB44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DD1CB-2D92-4854-8EDD-65B9C952E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47920" y="1905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9C354-061A-4A08-BCC8-BCDAB4F9F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7A5C2-4F30-4D4B-A7A5-6B3A2DDE1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3718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52120" y="1905120"/>
            <a:ext cx="3718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A8965-2C45-45D0-AC31-745FEFAA4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BCC50-203E-4A89-91F9-AAC88405B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F242E-ABB7-44C2-963A-1C22068E5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371808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120" y="1905120"/>
            <a:ext cx="3718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47920" y="3974760"/>
            <a:ext cx="371808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75172-D9E4-4683-A2BB-228A8DCC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447920" y="1905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5776-B7DB-4DE5-B095-ECDC43EE8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3718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52120" y="1905120"/>
            <a:ext cx="371808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52120" y="3974760"/>
            <a:ext cx="371808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4F653-8ADE-42C4-A7BE-1C82E593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371808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352120" y="1905120"/>
            <a:ext cx="371808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47920" y="3974760"/>
            <a:ext cx="761976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670CB-BC1D-4DA8-83B5-398B7D09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761976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47920" y="3974760"/>
            <a:ext cx="761976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48C20-5E84-47F0-9D28-8C1F72519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371808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52120" y="1905120"/>
            <a:ext cx="371808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47920" y="3974760"/>
            <a:ext cx="371808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352120" y="3974760"/>
            <a:ext cx="371808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5CE0D-6E84-4EEB-A974-6340CA112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245340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024440" y="1905120"/>
            <a:ext cx="245340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00960" y="1905120"/>
            <a:ext cx="245340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47920" y="3974760"/>
            <a:ext cx="245340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4024440" y="3974760"/>
            <a:ext cx="245340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00960" y="3974760"/>
            <a:ext cx="245340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B3460-9A8F-4510-8E5B-596F86714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C36D-2978-48FF-B693-186124F16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3718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2120" y="1905120"/>
            <a:ext cx="3718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B8F4-466B-4041-8308-69B98382E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1F64-5222-4615-BB45-3BBAE2E39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C900-EA12-480F-900B-D75E7E2C8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371808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120" y="1905120"/>
            <a:ext cx="3718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47920" y="3974760"/>
            <a:ext cx="371808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1B2C-4FE2-45BE-9779-961B61EF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3718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120" y="1905120"/>
            <a:ext cx="371808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52120" y="3974760"/>
            <a:ext cx="371808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8E87-AFE3-4933-9481-16D14529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371808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52120" y="1905120"/>
            <a:ext cx="371808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47920" y="3974760"/>
            <a:ext cx="761976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57AB-6F20-4391-B823-7642A9CD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91120" y="5791320"/>
          <a:ext cx="1218960" cy="72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91120" y="5791320"/>
                    <a:ext cx="121896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8cfe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cfe0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-14040" bIns="-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447920" y="1905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99"/>
              </a:spcBef>
              <a:buClr>
                <a:srgbClr val="33cc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799"/>
              </a:spcBef>
              <a:buClr>
                <a:srgbClr val="8cfe0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973520" indent="-2178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973520" indent="-2178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973520" indent="-2178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Arbeitsgruppe Funk-Netzwer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DBADB-85C6-4589-A698-A651EC3F8851}" type="slidenum">
              <a:rPr b="0" lang="de-DE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1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5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8cfe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cfe0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C4192-CCE5-4932-85D0-6E7BFD19A972}" type="slidenum">
              <a:rPr b="0" lang="de-DE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Arbeitsgruppe Funk-Netzwerk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 rot="19800000">
            <a:off x="2133360" y="350496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9800000">
            <a:off x="1921680" y="2746800"/>
            <a:ext cx="4752720" cy="703440"/>
          </a:xfrm>
          <a:prstGeom prst="rect">
            <a:avLst/>
          </a:prstGeom>
          <a:solidFill>
            <a:srgbClr val="ffffff"/>
          </a:solid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PRESCRIBE"/>
              </a:rPr>
              <a:t>Zwischenberic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D3B5-AA89-4D02-B3FB-3A1B7878038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Vielen Dank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2F45-38C6-41D9-B59A-72D55246FD3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Anlagen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109D-D6B2-4ED0-8DB7-FE662990961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Handlungsperspektive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... sind gedacht als </a:t>
            </a:r>
            <a:r>
              <a:rPr b="0" i="1" lang="de-DE" sz="3200" spc="-1" strike="noStrike">
                <a:solidFill>
                  <a:srgbClr val="000000"/>
                </a:solidFill>
                <a:latin typeface="Tahoma"/>
              </a:rPr>
              <a:t>Empfehlungen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a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Gesamtkonferen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chulleit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Fachkonferenz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PC-Bewirtschaftungsausschu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Haushaltsausschu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>
            <a:hlinkClick r:id="" action="ppaction://hlinkshowjump?jump=previousslide"/>
          </p:cNvPr>
          <p:cNvSpPr/>
          <p:nvPr/>
        </p:nvSpPr>
        <p:spPr>
          <a:xfrm>
            <a:off x="7201080" y="1171440"/>
            <a:ext cx="433080" cy="433440"/>
          </a:xfrm>
          <a:custGeom>
            <a:avLst/>
            <a:gdLst>
              <a:gd name="textAreaLeft" fmla="*/ 28080 w 433080"/>
              <a:gd name="textAreaRight" fmla="*/ 405000 w 43308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3794" y="7502"/>
                </a:moveTo>
                <a:lnTo>
                  <a:pt x="7301" y="7502"/>
                </a:lnTo>
                <a:lnTo>
                  <a:pt x="7301" y="12837"/>
                </a:lnTo>
                <a:cubicBezTo>
                  <a:pt x="7301" y="13760"/>
                  <a:pt x="8102" y="14491"/>
                  <a:pt x="9138" y="14491"/>
                </a:cubicBezTo>
                <a:lnTo>
                  <a:pt x="10800" y="14491"/>
                </a:lnTo>
                <a:cubicBezTo>
                  <a:pt x="11836" y="14491"/>
                  <a:pt x="12636" y="13760"/>
                  <a:pt x="12636" y="12837"/>
                </a:cubicBezTo>
                <a:lnTo>
                  <a:pt x="12636" y="7502"/>
                </a:lnTo>
                <a:lnTo>
                  <a:pt x="10800" y="7502"/>
                </a:lnTo>
                <a:lnTo>
                  <a:pt x="14308" y="3994"/>
                </a:lnTo>
                <a:lnTo>
                  <a:pt x="17981" y="7502"/>
                </a:lnTo>
                <a:lnTo>
                  <a:pt x="16144" y="7502"/>
                </a:lnTo>
                <a:lnTo>
                  <a:pt x="16144" y="12837"/>
                </a:lnTo>
                <a:cubicBezTo>
                  <a:pt x="16144" y="15605"/>
                  <a:pt x="13568" y="18164"/>
                  <a:pt x="10800" y="18164"/>
                </a:cubicBezTo>
                <a:lnTo>
                  <a:pt x="9138" y="18164"/>
                </a:lnTo>
                <a:cubicBezTo>
                  <a:pt x="6370" y="18164"/>
                  <a:pt x="3794" y="15605"/>
                  <a:pt x="3794" y="12837"/>
                </a:cubicBez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C0D6-AA98-4FD5-AA24-9B47F086041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Grenzwerte EMS bei 2,4 GHz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062000" y="1905120"/>
          <a:ext cx="7238880" cy="376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1905120"/>
                    <a:ext cx="7238880" cy="37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>
            <a:hlinkClick r:id="" action="ppaction://hlinkshowjump?jump=previousslide"/>
          </p:cNvPr>
          <p:cNvSpPr/>
          <p:nvPr/>
        </p:nvSpPr>
        <p:spPr>
          <a:xfrm>
            <a:off x="7848720" y="5486400"/>
            <a:ext cx="433440" cy="433440"/>
          </a:xfrm>
          <a:custGeom>
            <a:avLst/>
            <a:gdLst>
              <a:gd name="textAreaLeft" fmla="*/ 28080 w 433440"/>
              <a:gd name="textAreaRight" fmla="*/ 405360 w 4334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D12E-FD69-4DFE-A643-7B9CFB5422E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Alternative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">
            <a:hlinkClick r:id="" action="ppaction://hlinkshowjump?jump=previousslide"/>
          </p:cNvPr>
          <p:cNvSpPr/>
          <p:nvPr/>
        </p:nvSpPr>
        <p:spPr>
          <a:xfrm>
            <a:off x="8381880" y="5791320"/>
            <a:ext cx="433440" cy="433440"/>
          </a:xfrm>
          <a:custGeom>
            <a:avLst/>
            <a:gdLst>
              <a:gd name="textAreaLeft" fmla="*/ 28080 w 433440"/>
              <a:gd name="textAreaRight" fmla="*/ 405360 w 4334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28600" y="1676520"/>
          <a:ext cx="8593200" cy="404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93200" cy="40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E97A-6675-4F10-9184-E57FC769A93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Arbeitsgruppe Funk-Netzwerk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Joachim Brot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Detlef Gies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Kim Hans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Uli Kastau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tefanie Rück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Horst Totter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3ABD-405C-4DEB-8BB7-F4C84E5772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Arbeitsgruppe Funk-Netzwerk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47920" y="2590560"/>
            <a:ext cx="761976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Entlastung der Gesamtkonferen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Gegner und Befürworter von Funk-Netzwerken arbeiten gemeins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Elektrosmog-Diskussion aufnehmen und entschärf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Informationen recherchieren und bewert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Handlungsperspektiven aufzeigen </a:t>
            </a:r>
            <a:r>
              <a:rPr b="0" lang="de-DE" sz="2800" spc="-1" strike="noStrike" u="sng">
                <a:solidFill>
                  <a:srgbClr val="33ccff"/>
                </a:solidFill>
                <a:uFillTx/>
                <a:latin typeface="ITC Zapf Dingbats"/>
                <a:ea typeface="ITC Zapf Dingbats"/>
                <a:hlinkClick r:id="rId1" action="ppaction://hlinksldjump"/>
              </a:rPr>
              <a:t>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2057400"/>
            <a:ext cx="7620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Motivation, Zie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2370-6680-486A-A668-0C4E1DDA3C3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447920" y="1905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ahoma"/>
              </a:rPr>
              <a:t>Synonym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ireless 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ireless Local Area Network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kabelloses Netzwe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Datenübertragung per Funk im Frequenzbereich 2,4 GH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Funk-Netzwerk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7" name="app_030_grfx1" descr=""/>
          <p:cNvPicPr/>
          <p:nvPr/>
        </p:nvPicPr>
        <p:blipFill>
          <a:blip r:embed="rId1"/>
          <a:stretch/>
        </p:blipFill>
        <p:spPr>
          <a:xfrm>
            <a:off x="5791320" y="914400"/>
            <a:ext cx="2789280" cy="2685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F220-6B24-4E8E-B443-86924E513C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WLAN an der BBS Wins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ahoma"/>
              </a:rPr>
              <a:t>W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Naturwissenschaftliche Fachräu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E 22 - Physi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E 24 - Biolog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E 26 - Chem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C7D8-052E-405B-9D92-42191F3EE9F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WLAN an der BBS Wins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Warum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gegenüber festen Netzwerkanschlüssen geringerer Installationsaufwand bzw. Kost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WLAN war 2002 Voraussetzung zur Bewilligung von Fördergeld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chnurloser Betrieb ermöglicht mobile und flexible Nutzung von PCs (Notebooks), keine Stolpergefahr, verschiedene Sitzordnungen mögli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382E-391B-4CD8-BAA4-E2007B368F0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WLAN an der BBS Wins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Einwän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Elektromagnetische Verträglichkeit ungeklärt </a:t>
            </a:r>
            <a:r>
              <a:rPr b="0" lang="de-DE" sz="2800" spc="-1" strike="noStrike" u="sng">
                <a:solidFill>
                  <a:srgbClr val="33ccff"/>
                </a:solidFill>
                <a:uFillTx/>
                <a:latin typeface="ITC Zapf Dingbats"/>
                <a:ea typeface="ITC Zapf Dingbats"/>
                <a:hlinkClick r:id="rId1" action="ppaction://hlinksldjump"/>
              </a:rPr>
              <a:t>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icherheitsmaßnahmen zeitaufwendig, z.B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33cc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Zulassen ausgewählter Nutzer bzw. P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33cc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Verschlüsselung der Da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gegenüber festen Netzwerkanschlüssen geringere Bandbreite und Stabilitä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3271-7EA3-47CA-8F53-DA7172B97F2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Empfehlung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ahoma"/>
              </a:rPr>
              <a:t>Kurzfristige Maßnahm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keine weitere Ausstattung mit W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Rückbau der vorhandenen Access-Points in den Naturwissenschaften auf eine mobile Einhe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nschaffung von Messgeräten für verschiedener Frequenzbereiche hochfrequenter Strahlu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C8E1-CE4D-4BD6-83F0-B191C615940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Empfehlung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ahoma"/>
              </a:rPr>
              <a:t>Mittelfristige Maßnahm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Erfassung und Bewertung elektro-magnetischer Strahlungsquellen an der BBS Wins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ahoma"/>
              </a:rPr>
              <a:t>Mögliche Konsequenz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Ersatz von WLAN durch Festnetz? </a:t>
            </a:r>
            <a:r>
              <a:rPr b="0" lang="de-DE" sz="3200" spc="-1" strike="noStrike" u="sng">
                <a:solidFill>
                  <a:srgbClr val="33ccff"/>
                </a:solidFill>
                <a:uFillTx/>
                <a:latin typeface="ITC Zapf Dingbats"/>
                <a:ea typeface="ITC Zapf Dingbats"/>
                <a:hlinkClick r:id="rId1" action="ppaction://hlinksldjump"/>
              </a:rPr>
              <a:t>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Verbot von Handys und Funktelefone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4933-42FE-4CC7-9AC1-3C504DB66F4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1T13:55:57Z</dcterms:created>
  <dc:creator>a</dc:creator>
  <dc:description/>
  <dc:language>en-US</dc:language>
  <cp:lastModifiedBy>a</cp:lastModifiedBy>
  <dcterms:modified xsi:type="dcterms:W3CDTF">2007-02-01T08:32:27Z</dcterms:modified>
  <cp:revision>38</cp:revision>
  <dc:subject/>
  <dc:title>WLAN an der BBS Winsen</dc:title>
</cp:coreProperties>
</file>